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AF2-0CD4-4265-81CB-96B0EC7F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4D7-7FC0-40E6-828D-BB3D4E38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78D-9A30-4AE0-9A2C-BFF2C92F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A2C-927C-4025-86CD-79D6FD67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632E-7038-4684-9EA6-98A07599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A4E3-0809-425C-8B66-D1B8F0EB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0C65-02EA-460D-A19C-EFC78A05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99C0-61B6-4126-9FA9-BA1AD6D3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1DE5-DB8D-4B66-8922-F5576659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D2D-731A-4F63-A2B9-824C55C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0DF4-AD64-48ED-A722-1E43FB23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A8A-2D52-4880-B1DC-756ECE83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C25-226B-4E1D-B11E-1AD0A55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0AC8-DBAA-47F8-9C04-DB0C61D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0C6F-7173-4B76-9856-8D00828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E44-F850-4F01-BDFC-6B25641B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8CF3-E202-46C2-9A73-60C48F5B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960-DCAF-4BB2-A552-9D50076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046-9F1D-40C3-9A41-7500535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F8D-B80C-4135-B5FB-83A355D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6AD-B342-436E-B5A2-C2417FE5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8D6-9267-4E27-86CF-B479D53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92B-6EA2-4432-8F99-4D557759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CF3-3D38-44ED-BED5-178F9CD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46A-713E-45F6-851B-4E43037B57A0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438F-5710-4AE2-8679-169D8C3CB2F1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R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5676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and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Mountain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Elburz – North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Zagros – South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81560" y="762120"/>
            <a:ext cx="47624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aspian Sea 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Persian Gulf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6198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Diversify Economy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arming&lt; 12%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2520" y="3121200"/>
            <a:ext cx="49813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Persian not Arab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ehran – Capita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98% Muslim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1480" y="1905120"/>
            <a:ext cx="48625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History/Governmen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hah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Islamic Republic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Mahmoud Ahmadinejad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5193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5:04:47Z</dcterms:created>
  <dc:creator>Cumberland County School</dc:creator>
  <dc:description/>
  <dc:language>en-US</dc:language>
  <cp:lastModifiedBy> John Doe</cp:lastModifiedBy>
  <dcterms:modified xsi:type="dcterms:W3CDTF">2008-01-18T19:33:20Z</dcterms:modified>
  <cp:revision>5</cp:revision>
  <dc:subject/>
  <dc:title>IR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